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A68-829F-40E6-8A6F-F05A2E92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471-A332-4838-816C-E1263ACE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8F5-69E1-4BB6-9BB3-C01CA2F6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6FE-6388-4780-9E83-316173F9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805-89D5-46C8-B94D-5F04B935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F2F-8324-4BFB-8550-B6C6F56B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6CF-98D2-4395-A83A-DC342942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59D-C756-40F0-898D-9331ECD8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0EF-C1E4-4E0A-9C47-C0DD346F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834-FCCE-46BF-86D4-45E15EB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10E-EED0-4F8D-945A-D7EABDBD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75C-A6E4-4583-86BC-A1BF4FCD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4C03-D652-47B1-81C2-2AE2FC857C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3564000" y="2565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06:56:00Z</dcterms:modified>
  <cp:revision>810</cp:revision>
  <dc:subject/>
  <dc:title>Free PPT Backgrounds</dc:title>
</cp:coreProperties>
</file>